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7240" y="1828800"/>
            <a:ext cx="7769520" cy="0"/>
          </a:xfrm>
          <a:prstGeom prst="line">
            <a:avLst/>
          </a:prstGeom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Software Engineering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for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 Weis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ef Technolog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erox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creates a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eteer speaks at 1.2-2, and discounts everything heard by 0.8-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gineer speaks at 0.5-0.8, and boosts everything heard by 1.2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you see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br>
              <a:rPr sz="40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what are these two people thin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26040" y="3952800"/>
            <a:ext cx="1440000" cy="220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47880" y="3871800"/>
            <a:ext cx="1822320" cy="2281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973160" y="2682720"/>
            <a:ext cx="2266920" cy="671400"/>
          </a:xfrm>
          <a:prstGeom prst="rect">
            <a:avLst/>
          </a:prstGeom>
          <a:noFill/>
          <a:ln w="25560">
            <a:solidFill>
              <a:srgbClr val="00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It may be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4240" y="2195640"/>
            <a:ext cx="2527200" cy="1168560"/>
          </a:xfrm>
          <a:prstGeom prst="rect">
            <a:avLst/>
          </a:prstGeom>
          <a:noFill/>
          <a:ln w="25560">
            <a:solidFill>
              <a:srgbClr val="00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It will solve all our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4876920"/>
            <a:ext cx="3048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ngineer says: This is a pretty good piece of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83240" y="2276640"/>
            <a:ext cx="1440000" cy="22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952880" y="4876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Marketeer hears: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5760" y="2271600"/>
            <a:ext cx="1822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4876920"/>
            <a:ext cx="30481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ngineer says: This is a pretty good piece of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83240" y="2276640"/>
            <a:ext cx="1440000" cy="2205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952880" y="4876920"/>
            <a:ext cx="34290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Marketeer hears: this guy has no confidence, and his software is pretty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85760" y="2271600"/>
            <a:ext cx="1822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ngineer hears: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83240" y="2276640"/>
            <a:ext cx="1440000" cy="220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952880" y="4876920"/>
            <a:ext cx="3429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Marketeer says: This is really real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5760" y="2271600"/>
            <a:ext cx="1822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4876920"/>
            <a:ext cx="3352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ngineer hears: Either he’s discovered cold fusion, or he’s l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3240" y="2276640"/>
            <a:ext cx="1440000" cy="220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952880" y="4876920"/>
            <a:ext cx="3429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Marketeer says: This is really real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85760" y="2271600"/>
            <a:ext cx="1822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:</a:t>
            </a:r>
            <a:br>
              <a:rPr sz="1800"/>
            </a:b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the same thought can lead to different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26040" y="3952800"/>
            <a:ext cx="1440000" cy="2205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47880" y="3871800"/>
            <a:ext cx="1822320" cy="2281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68120" y="3316320"/>
            <a:ext cx="2173320" cy="1663560"/>
          </a:xfrm>
          <a:prstGeom prst="rect">
            <a:avLst/>
          </a:prstGeom>
          <a:noFill/>
          <a:ln w="25560">
            <a:solidFill>
              <a:srgbClr val="009966"/>
            </a:solidFill>
            <a:custDash>
              <a:ds d="100000" sp="100000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966"/>
                </a:solidFill>
                <a:latin typeface="Arial"/>
                <a:ea typeface="Arial"/>
              </a:rPr>
              <a:t>This code is good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723000" y="3322800"/>
            <a:ext cx="2176560" cy="1663560"/>
          </a:xfrm>
          <a:prstGeom prst="rect">
            <a:avLst/>
          </a:prstGeom>
          <a:noFill/>
          <a:ln w="25560">
            <a:solidFill>
              <a:srgbClr val="009966"/>
            </a:solidFill>
            <a:custDash>
              <a:ds d="100000" sp="100000"/>
            </a:custDash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966"/>
                </a:solidFill>
                <a:latin typeface="Arial"/>
                <a:ea typeface="Arial"/>
              </a:rPr>
              <a:t>This code is good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7640" y="2660760"/>
            <a:ext cx="2152800" cy="1168560"/>
          </a:xfrm>
          <a:prstGeom prst="rect">
            <a:avLst/>
          </a:prstGeom>
          <a:noFill/>
          <a:ln w="25560">
            <a:solidFill>
              <a:srgbClr val="00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It may be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94240" y="2195640"/>
            <a:ext cx="2527200" cy="1168560"/>
          </a:xfrm>
          <a:prstGeom prst="rect">
            <a:avLst/>
          </a:prstGeom>
          <a:noFill/>
          <a:ln w="25560">
            <a:solidFill>
              <a:srgbClr val="00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It will solve all our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peaking of engineer, about 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listening of engineer, about 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speaking of marketeer, about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listening of marketeer, about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n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x)) = x, and 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x)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But L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  <a:ea typeface="Arial"/>
              </a:rPr>
              <a:t>M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(S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  <a:ea typeface="Arial"/>
              </a:rPr>
              <a:t>E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(x)) = 0.3x, and   L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  <a:ea typeface="Arial"/>
              </a:rPr>
              <a:t>E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(S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Arial"/>
                <a:ea typeface="Arial"/>
              </a:rPr>
              <a:t>M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(x)) = 2.8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What to do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bout reality distor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you want to be underst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ak into the culture of your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ice how you ar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you want to be under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ly the appropriate distortio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k questions to tune your distortion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n’t ever expect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Problems of Agreement in Software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many kinds of reality dist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ming to agree but not really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do we agree about in S.E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are the foundations of our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ing their truth is almost unheard 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lmost all are familiar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should all practitioners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yond technical skill in particular languag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Jou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hing agreement among research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s with Agreement with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nges in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rics for ICSE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udience Poll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On What do we Ag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On What Do We Agree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Some of My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905120"/>
            <a:ext cx="8001000" cy="42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gh level languages, if appropriate, improve all aspects of a project except possibly runni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iding software into modules improves implementation time and main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iteria: information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cessed through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cumentation 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ing people to a late project makes it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 few on which we </a:t>
            </a:r>
            <a:r>
              <a:rPr b="0" i="1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don’t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 a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m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y methodology fo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ic storag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at people and process are part of S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test (if at 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Forces against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efits to disagre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bsence of pressure for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nefits, when present, com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Benefits to disagre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ublishing, personal glory, persona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disagreements on assumptions lead to more, easier papers than disagreements on methods or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disagreements on the best tools mean I can sell my tool instead of buying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bsence of pressure for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pressure to 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referees and program committees don’t care if papers in a session use different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limited resource is being divided by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in business if you can’t agree on a contract, everyone 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Benefits, when present, come slow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quicker instant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shall I take the time to use SPI for my grad student projects, or just let them “hack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 shall I take the time to document and measure my own software (or teaching, or management)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 in S.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ustry plays the role of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aking and acting conserv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ening with an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nyone who has successfully delivered a softwa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ustry does S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ademics play the role of market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aking at about 1.5-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en to each other with a dis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s do Research on S.E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But worse than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ademia and industry may not even be talking about the same subjec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533520"/>
            <a:ext cx="7772400" cy="13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Research in software engineering (RSE) is not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software engineering (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 produces software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SE produces understanding of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versities don’t practice S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s too s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 much in a hur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s un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My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029200"/>
            <a:ext cx="7846920" cy="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5334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848720" y="5257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152280" y="37306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progr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7520" y="37306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mployee #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365436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00600" y="3297240"/>
            <a:ext cx="3510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individual contribu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6360" y="35784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lab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03920" y="357840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entrepre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75480" y="3916440"/>
            <a:ext cx="1854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chie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5334120"/>
            <a:ext cx="7770600" cy="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20760" y="5105520"/>
            <a:ext cx="137016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8680" y="5181480"/>
            <a:ext cx="2055600" cy="0"/>
          </a:xfrm>
          <a:prstGeom prst="line">
            <a:avLst/>
          </a:prstGeom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2040" y="5105520"/>
            <a:ext cx="532080" cy="0"/>
          </a:xfrm>
          <a:prstGeom prst="line">
            <a:avLst/>
          </a:prstGeom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1880" y="5181480"/>
            <a:ext cx="1674720" cy="0"/>
          </a:xfrm>
          <a:prstGeom prst="line">
            <a:avLst/>
          </a:prstGeom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8040" y="5105520"/>
            <a:ext cx="60804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3840" y="5181480"/>
            <a:ext cx="455760" cy="0"/>
          </a:xfrm>
          <a:prstGeom prst="line">
            <a:avLst/>
          </a:prstGeom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If academics did use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 SE in R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the very best S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ftware Process Improvement (S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ability Maturity Model (C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 maximum COT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ercial off-the-shel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219320" y="2057400"/>
            <a:ext cx="579132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Arial"/>
              </a:rPr>
              <a:t>Software Engineering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a poor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model of Software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64160" y="2044800"/>
            <a:ext cx="2463840" cy="873000"/>
          </a:xfrm>
          <a:prstGeom prst="rect">
            <a:avLst/>
          </a:prstGeom>
          <a:noFill/>
          <a:ln w="25560">
            <a:solidFill>
              <a:srgbClr val="ff0066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e practice of creat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9680" y="3720960"/>
            <a:ext cx="2540160" cy="1238400"/>
          </a:xfrm>
          <a:prstGeom prst="rect">
            <a:avLst/>
          </a:prstGeom>
          <a:noFill/>
          <a:ln w="25560">
            <a:solidFill>
              <a:srgbClr val="00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understanding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f how software 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09480" y="457200"/>
            <a:ext cx="7772400" cy="12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Software Engineering”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is a poor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model of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362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ing how to lead teams of people to build software is no key to understanding software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Computer Science and Software academic departments may be the last place to find good models of Software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How can we understand S.E. better?</a:t>
            </a:r>
            <a:br>
              <a:rPr sz="1800"/>
            </a:b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(in industry and academ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reflective practit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social science attention to software and softwar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Skill is not enou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of algorithms and data structures are crucial enabler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not always necessary nor 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necessary for many utilitarian and policy understa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 sufficient for productiv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community skill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implicitly learn values, language, and culture whether we like i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What values do our practices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and courses t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alone, produce the right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t of a “rugged individualism”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r practition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e joining a communit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community values that w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plictly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Learning is always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joining a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arning is not poured from faculty to student b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pecially not without a strong community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learning is within and about a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ve and Wenger,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Example of learning and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agine learning to drive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community are you jo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 desert vs.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ap disposable cars vs. repaired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d-up pocket cars vs. parking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literate vs. literate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Important Community Issues for Software Engineering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Academia educate ou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Huma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oal is of computer science to make [computers] more useful and useable.”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ick Weingarten, testifying to Congress, May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are people like?  This is the subject of humanities and soci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: “The Tacit Dimen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Most important thing I learned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in my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derstanding and obtaining financ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 and sched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nnels and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blems with reaching agre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e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ving a real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The Tacit Dimensio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hilospher Polanyi’s book by sam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magine strapping toilet tubes to your eyes and walking around fo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ts of su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519280" y="3557520"/>
            <a:ext cx="1222560" cy="2378520"/>
            <a:chOff x="2519280" y="3557520"/>
            <a:chExt cx="1222560" cy="2378520"/>
          </a:xfrm>
        </p:grpSpPr>
        <p:grpSp>
          <p:nvGrpSpPr>
            <p:cNvPr id="158" name=""/>
            <p:cNvGrpSpPr/>
            <p:nvPr/>
          </p:nvGrpSpPr>
          <p:grpSpPr>
            <a:xfrm>
              <a:off x="3176640" y="4305240"/>
              <a:ext cx="351000" cy="1004040"/>
              <a:chOff x="3176640" y="4305240"/>
              <a:chExt cx="351000" cy="1004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176640" y="5027760"/>
                <a:ext cx="314640" cy="281520"/>
                <a:chOff x="3176640" y="5027760"/>
                <a:chExt cx="314640" cy="281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176640" y="5027760"/>
                  <a:ext cx="314640" cy="281520"/>
                </a:xfrm>
                <a:custGeom>
                  <a:avLst/>
                  <a:gdLst/>
                  <a:ahLst/>
                  <a:rect l="0" t="0" r="r" b="b"/>
                  <a:pathLst>
                    <a:path w="874" h="782">
                      <a:moveTo>
                        <a:pt x="136" y="97"/>
                      </a:moveTo>
                      <a:lnTo>
                        <a:pt x="79" y="199"/>
                      </a:lnTo>
                      <a:lnTo>
                        <a:pt x="61" y="239"/>
                      </a:lnTo>
                      <a:lnTo>
                        <a:pt x="48" y="283"/>
                      </a:lnTo>
                      <a:lnTo>
                        <a:pt x="39" y="344"/>
                      </a:lnTo>
                      <a:lnTo>
                        <a:pt x="39" y="402"/>
                      </a:lnTo>
                      <a:lnTo>
                        <a:pt x="48" y="464"/>
                      </a:lnTo>
                      <a:lnTo>
                        <a:pt x="70" y="516"/>
                      </a:lnTo>
                      <a:lnTo>
                        <a:pt x="119" y="552"/>
                      </a:lnTo>
                      <a:lnTo>
                        <a:pt x="66" y="521"/>
                      </a:lnTo>
                      <a:lnTo>
                        <a:pt x="48" y="516"/>
                      </a:lnTo>
                      <a:lnTo>
                        <a:pt x="17" y="530"/>
                      </a:lnTo>
                      <a:lnTo>
                        <a:pt x="8" y="547"/>
                      </a:lnTo>
                      <a:lnTo>
                        <a:pt x="0" y="569"/>
                      </a:lnTo>
                      <a:lnTo>
                        <a:pt x="8" y="592"/>
                      </a:lnTo>
                      <a:lnTo>
                        <a:pt x="26" y="619"/>
                      </a:lnTo>
                      <a:lnTo>
                        <a:pt x="92" y="672"/>
                      </a:lnTo>
                      <a:lnTo>
                        <a:pt x="198" y="711"/>
                      </a:lnTo>
                      <a:lnTo>
                        <a:pt x="242" y="725"/>
                      </a:lnTo>
                      <a:lnTo>
                        <a:pt x="295" y="734"/>
                      </a:lnTo>
                      <a:lnTo>
                        <a:pt x="335" y="734"/>
                      </a:lnTo>
                      <a:lnTo>
                        <a:pt x="379" y="747"/>
                      </a:lnTo>
                      <a:lnTo>
                        <a:pt x="436" y="764"/>
                      </a:lnTo>
                      <a:lnTo>
                        <a:pt x="561" y="782"/>
                      </a:lnTo>
                      <a:lnTo>
                        <a:pt x="710" y="751"/>
                      </a:lnTo>
                      <a:lnTo>
                        <a:pt x="807" y="751"/>
                      </a:lnTo>
                      <a:lnTo>
                        <a:pt x="834" y="742"/>
                      </a:lnTo>
                      <a:lnTo>
                        <a:pt x="856" y="716"/>
                      </a:lnTo>
                      <a:lnTo>
                        <a:pt x="865" y="685"/>
                      </a:lnTo>
                      <a:lnTo>
                        <a:pt x="874" y="556"/>
                      </a:lnTo>
                      <a:lnTo>
                        <a:pt x="874" y="455"/>
                      </a:lnTo>
                      <a:lnTo>
                        <a:pt x="869" y="402"/>
                      </a:lnTo>
                      <a:lnTo>
                        <a:pt x="865" y="367"/>
                      </a:lnTo>
                      <a:lnTo>
                        <a:pt x="856" y="331"/>
                      </a:lnTo>
                      <a:lnTo>
                        <a:pt x="847" y="292"/>
                      </a:lnTo>
                      <a:lnTo>
                        <a:pt x="803" y="149"/>
                      </a:lnTo>
                      <a:lnTo>
                        <a:pt x="750" y="0"/>
                      </a:lnTo>
                      <a:lnTo>
                        <a:pt x="136" y="9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19480" y="5213520"/>
                  <a:ext cx="14760" cy="25560"/>
                </a:xfrm>
                <a:custGeom>
                  <a:avLst/>
                  <a:gdLst/>
                  <a:ahLst/>
                  <a:rect l="0" t="0" r="r" b="b"/>
                  <a:pathLst>
                    <a:path fill="none" w="41" h="71">
                      <a:moveTo>
                        <a:pt x="41" y="1"/>
                      </a:moveTo>
                      <a:lnTo>
                        <a:pt x="41" y="1"/>
                      </a:lnTo>
                      <a:cubicBezTo>
                        <a:pt x="39" y="1"/>
                        <a:pt x="37" y="0"/>
                        <a:pt x="36" y="0"/>
                      </a:cubicBezTo>
                      <a:cubicBezTo>
                        <a:pt x="29" y="0"/>
                        <a:pt x="23" y="3"/>
                        <a:pt x="18" y="9"/>
                      </a:cubicBezTo>
                      <a:cubicBezTo>
                        <a:pt x="12" y="15"/>
                        <a:pt x="8" y="23"/>
                        <a:pt x="5" y="33"/>
                      </a:cubicBezTo>
                      <a:cubicBezTo>
                        <a:pt x="2" y="43"/>
                        <a:pt x="0" y="54"/>
                        <a:pt x="0" y="65"/>
                      </a:cubicBezTo>
                      <a:cubicBezTo>
                        <a:pt x="0" y="67"/>
                        <a:pt x="0" y="69"/>
                        <a:pt x="0" y="71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3235320" y="5052960"/>
                <a:ext cx="270000" cy="57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16240" y="4305240"/>
                <a:ext cx="311400" cy="775080"/>
              </a:xfrm>
              <a:custGeom>
                <a:avLst/>
                <a:gdLst/>
                <a:ahLst/>
                <a:rect l="0" t="0" r="r" b="b"/>
                <a:pathLst>
                  <a:path w="865" h="2153">
                    <a:moveTo>
                      <a:pt x="39" y="741"/>
                    </a:moveTo>
                    <a:lnTo>
                      <a:pt x="22" y="1381"/>
                    </a:lnTo>
                    <a:lnTo>
                      <a:pt x="0" y="2153"/>
                    </a:lnTo>
                    <a:lnTo>
                      <a:pt x="834" y="2145"/>
                    </a:lnTo>
                    <a:lnTo>
                      <a:pt x="838" y="1337"/>
                    </a:lnTo>
                    <a:lnTo>
                      <a:pt x="838" y="918"/>
                    </a:lnTo>
                    <a:lnTo>
                      <a:pt x="865" y="480"/>
                    </a:lnTo>
                    <a:lnTo>
                      <a:pt x="860" y="374"/>
                    </a:lnTo>
                    <a:lnTo>
                      <a:pt x="852" y="304"/>
                    </a:lnTo>
                    <a:lnTo>
                      <a:pt x="834" y="229"/>
                    </a:lnTo>
                    <a:lnTo>
                      <a:pt x="821" y="180"/>
                    </a:lnTo>
                    <a:lnTo>
                      <a:pt x="790" y="127"/>
                    </a:lnTo>
                    <a:lnTo>
                      <a:pt x="759" y="97"/>
                    </a:lnTo>
                    <a:lnTo>
                      <a:pt x="710" y="61"/>
                    </a:lnTo>
                    <a:lnTo>
                      <a:pt x="649" y="30"/>
                    </a:lnTo>
                    <a:lnTo>
                      <a:pt x="583" y="8"/>
                    </a:lnTo>
                    <a:lnTo>
                      <a:pt x="508" y="4"/>
                    </a:lnTo>
                    <a:lnTo>
                      <a:pt x="446" y="0"/>
                    </a:lnTo>
                    <a:lnTo>
                      <a:pt x="370" y="13"/>
                    </a:lnTo>
                    <a:lnTo>
                      <a:pt x="299" y="35"/>
                    </a:lnTo>
                    <a:lnTo>
                      <a:pt x="255" y="61"/>
                    </a:lnTo>
                    <a:lnTo>
                      <a:pt x="207" y="101"/>
                    </a:lnTo>
                    <a:lnTo>
                      <a:pt x="171" y="145"/>
                    </a:lnTo>
                    <a:lnTo>
                      <a:pt x="132" y="211"/>
                    </a:lnTo>
                    <a:lnTo>
                      <a:pt x="101" y="286"/>
                    </a:lnTo>
                    <a:lnTo>
                      <a:pt x="74" y="410"/>
                    </a:lnTo>
                    <a:lnTo>
                      <a:pt x="39" y="741"/>
                    </a:lnTo>
                    <a:close/>
                  </a:path>
                </a:pathLst>
              </a:custGeom>
              <a:solidFill>
                <a:srgbClr val="804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174840" y="3557520"/>
              <a:ext cx="567000" cy="817920"/>
              <a:chOff x="3174840" y="3557520"/>
              <a:chExt cx="567000" cy="8179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3174840" y="3557520"/>
                <a:ext cx="567000" cy="817920"/>
                <a:chOff x="3174840" y="3557520"/>
                <a:chExt cx="567000" cy="8179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174840" y="3557520"/>
                  <a:ext cx="567000" cy="817920"/>
                </a:xfrm>
                <a:custGeom>
                  <a:avLst/>
                  <a:gdLst/>
                  <a:ahLst/>
                  <a:rect l="0" t="0" r="r" b="b"/>
                  <a:pathLst>
                    <a:path w="1575" h="2272">
                      <a:moveTo>
                        <a:pt x="1134" y="79"/>
                      </a:moveTo>
                      <a:lnTo>
                        <a:pt x="1046" y="39"/>
                      </a:lnTo>
                      <a:lnTo>
                        <a:pt x="949" y="22"/>
                      </a:lnTo>
                      <a:lnTo>
                        <a:pt x="869" y="13"/>
                      </a:lnTo>
                      <a:lnTo>
                        <a:pt x="754" y="0"/>
                      </a:lnTo>
                      <a:lnTo>
                        <a:pt x="639" y="0"/>
                      </a:lnTo>
                      <a:lnTo>
                        <a:pt x="507" y="13"/>
                      </a:lnTo>
                      <a:lnTo>
                        <a:pt x="427" y="35"/>
                      </a:lnTo>
                      <a:lnTo>
                        <a:pt x="282" y="88"/>
                      </a:lnTo>
                      <a:lnTo>
                        <a:pt x="171" y="127"/>
                      </a:lnTo>
                      <a:lnTo>
                        <a:pt x="211" y="154"/>
                      </a:lnTo>
                      <a:lnTo>
                        <a:pt x="132" y="242"/>
                      </a:lnTo>
                      <a:lnTo>
                        <a:pt x="70" y="313"/>
                      </a:lnTo>
                      <a:lnTo>
                        <a:pt x="145" y="335"/>
                      </a:lnTo>
                      <a:lnTo>
                        <a:pt x="48" y="432"/>
                      </a:lnTo>
                      <a:lnTo>
                        <a:pt x="114" y="427"/>
                      </a:lnTo>
                      <a:lnTo>
                        <a:pt x="13" y="560"/>
                      </a:lnTo>
                      <a:lnTo>
                        <a:pt x="79" y="582"/>
                      </a:lnTo>
                      <a:lnTo>
                        <a:pt x="52" y="612"/>
                      </a:lnTo>
                      <a:lnTo>
                        <a:pt x="30" y="652"/>
                      </a:lnTo>
                      <a:lnTo>
                        <a:pt x="0" y="723"/>
                      </a:lnTo>
                      <a:lnTo>
                        <a:pt x="70" y="701"/>
                      </a:lnTo>
                      <a:lnTo>
                        <a:pt x="132" y="767"/>
                      </a:lnTo>
                      <a:lnTo>
                        <a:pt x="110" y="780"/>
                      </a:lnTo>
                      <a:lnTo>
                        <a:pt x="74" y="806"/>
                      </a:lnTo>
                      <a:lnTo>
                        <a:pt x="48" y="842"/>
                      </a:lnTo>
                      <a:lnTo>
                        <a:pt x="30" y="873"/>
                      </a:lnTo>
                      <a:lnTo>
                        <a:pt x="22" y="908"/>
                      </a:lnTo>
                      <a:lnTo>
                        <a:pt x="17" y="943"/>
                      </a:lnTo>
                      <a:lnTo>
                        <a:pt x="22" y="983"/>
                      </a:lnTo>
                      <a:lnTo>
                        <a:pt x="30" y="1027"/>
                      </a:lnTo>
                      <a:lnTo>
                        <a:pt x="52" y="1067"/>
                      </a:lnTo>
                      <a:lnTo>
                        <a:pt x="88" y="1106"/>
                      </a:lnTo>
                      <a:lnTo>
                        <a:pt x="123" y="1133"/>
                      </a:lnTo>
                      <a:lnTo>
                        <a:pt x="158" y="1160"/>
                      </a:lnTo>
                      <a:lnTo>
                        <a:pt x="189" y="1182"/>
                      </a:lnTo>
                      <a:lnTo>
                        <a:pt x="246" y="1235"/>
                      </a:lnTo>
                      <a:lnTo>
                        <a:pt x="304" y="1332"/>
                      </a:lnTo>
                      <a:lnTo>
                        <a:pt x="313" y="1447"/>
                      </a:lnTo>
                      <a:lnTo>
                        <a:pt x="304" y="1513"/>
                      </a:lnTo>
                      <a:lnTo>
                        <a:pt x="251" y="1632"/>
                      </a:lnTo>
                      <a:lnTo>
                        <a:pt x="189" y="1747"/>
                      </a:lnTo>
                      <a:lnTo>
                        <a:pt x="701" y="2272"/>
                      </a:lnTo>
                      <a:lnTo>
                        <a:pt x="784" y="2086"/>
                      </a:lnTo>
                      <a:lnTo>
                        <a:pt x="856" y="2020"/>
                      </a:lnTo>
                      <a:lnTo>
                        <a:pt x="918" y="1972"/>
                      </a:lnTo>
                      <a:lnTo>
                        <a:pt x="997" y="1932"/>
                      </a:lnTo>
                      <a:lnTo>
                        <a:pt x="1085" y="1906"/>
                      </a:lnTo>
                      <a:lnTo>
                        <a:pt x="1173" y="1866"/>
                      </a:lnTo>
                      <a:lnTo>
                        <a:pt x="1240" y="1839"/>
                      </a:lnTo>
                      <a:lnTo>
                        <a:pt x="1288" y="1795"/>
                      </a:lnTo>
                      <a:lnTo>
                        <a:pt x="1315" y="1747"/>
                      </a:lnTo>
                      <a:lnTo>
                        <a:pt x="1341" y="1689"/>
                      </a:lnTo>
                      <a:lnTo>
                        <a:pt x="1354" y="1637"/>
                      </a:lnTo>
                      <a:lnTo>
                        <a:pt x="1368" y="1584"/>
                      </a:lnTo>
                      <a:lnTo>
                        <a:pt x="1376" y="1513"/>
                      </a:lnTo>
                      <a:lnTo>
                        <a:pt x="1385" y="1407"/>
                      </a:lnTo>
                      <a:lnTo>
                        <a:pt x="1385" y="1293"/>
                      </a:lnTo>
                      <a:lnTo>
                        <a:pt x="1416" y="1288"/>
                      </a:lnTo>
                      <a:lnTo>
                        <a:pt x="1447" y="1279"/>
                      </a:lnTo>
                      <a:lnTo>
                        <a:pt x="1487" y="1257"/>
                      </a:lnTo>
                      <a:lnTo>
                        <a:pt x="1522" y="1235"/>
                      </a:lnTo>
                      <a:lnTo>
                        <a:pt x="1548" y="1196"/>
                      </a:lnTo>
                      <a:lnTo>
                        <a:pt x="1566" y="1160"/>
                      </a:lnTo>
                      <a:lnTo>
                        <a:pt x="1575" y="1111"/>
                      </a:lnTo>
                      <a:lnTo>
                        <a:pt x="1570" y="1053"/>
                      </a:lnTo>
                      <a:lnTo>
                        <a:pt x="1548" y="1001"/>
                      </a:lnTo>
                      <a:lnTo>
                        <a:pt x="1526" y="952"/>
                      </a:lnTo>
                      <a:lnTo>
                        <a:pt x="1495" y="908"/>
                      </a:lnTo>
                      <a:lnTo>
                        <a:pt x="1420" y="793"/>
                      </a:lnTo>
                      <a:lnTo>
                        <a:pt x="1403" y="745"/>
                      </a:lnTo>
                      <a:lnTo>
                        <a:pt x="1403" y="683"/>
                      </a:lnTo>
                      <a:lnTo>
                        <a:pt x="1394" y="515"/>
                      </a:lnTo>
                      <a:lnTo>
                        <a:pt x="1381" y="432"/>
                      </a:lnTo>
                      <a:lnTo>
                        <a:pt x="1359" y="339"/>
                      </a:lnTo>
                      <a:lnTo>
                        <a:pt x="1319" y="268"/>
                      </a:lnTo>
                      <a:lnTo>
                        <a:pt x="1279" y="207"/>
                      </a:lnTo>
                      <a:lnTo>
                        <a:pt x="1235" y="154"/>
                      </a:lnTo>
                      <a:lnTo>
                        <a:pt x="1187" y="114"/>
                      </a:lnTo>
                      <a:lnTo>
                        <a:pt x="1134" y="7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804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576600" y="4108320"/>
                  <a:ext cx="89280" cy="25920"/>
                </a:xfrm>
                <a:custGeom>
                  <a:avLst/>
                  <a:gdLst/>
                  <a:ahLst/>
                  <a:rect l="0" t="0" r="r" b="b"/>
                  <a:pathLst>
                    <a:path fill="none" w="248" h="72">
                      <a:moveTo>
                        <a:pt x="248" y="14"/>
                      </a:moveTo>
                      <a:lnTo>
                        <a:pt x="172" y="0"/>
                      </a:lnTo>
                      <a:lnTo>
                        <a:pt x="111" y="0"/>
                      </a:lnTo>
                      <a:lnTo>
                        <a:pt x="67" y="14"/>
                      </a:lnTo>
                      <a:lnTo>
                        <a:pt x="22" y="43"/>
                      </a:lnTo>
                      <a:lnTo>
                        <a:pt x="0" y="72"/>
                      </a:lnTo>
                    </a:path>
                  </a:pathLst>
                </a:custGeom>
                <a:ln w="12600">
                  <a:solidFill>
                    <a:srgbClr val="804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98960" y="3844800"/>
                  <a:ext cx="44640" cy="64800"/>
                </a:xfrm>
                <a:custGeom>
                  <a:avLst/>
                  <a:gdLst/>
                  <a:ahLst/>
                  <a:rect l="0" t="0" r="r" b="b"/>
                  <a:pathLst>
                    <a:path fill="none" w="124" h="180">
                      <a:moveTo>
                        <a:pt x="124" y="0"/>
                      </a:moveTo>
                      <a:lnTo>
                        <a:pt x="124" y="0"/>
                      </a:lnTo>
                      <a:lnTo>
                        <a:pt x="124" y="0"/>
                      </a:lnTo>
                      <a:cubicBezTo>
                        <a:pt x="102" y="0"/>
                        <a:pt x="81" y="8"/>
                        <a:pt x="62" y="24"/>
                      </a:cubicBezTo>
                      <a:cubicBezTo>
                        <a:pt x="43" y="39"/>
                        <a:pt x="27" y="61"/>
                        <a:pt x="17" y="88"/>
                      </a:cubicBezTo>
                      <a:cubicBezTo>
                        <a:pt x="6" y="115"/>
                        <a:pt x="0" y="145"/>
                        <a:pt x="0" y="176"/>
                      </a:cubicBezTo>
                      <a:cubicBezTo>
                        <a:pt x="0" y="177"/>
                        <a:pt x="0" y="179"/>
                        <a:pt x="0" y="180"/>
                      </a:cubicBezTo>
                    </a:path>
                  </a:pathLst>
                </a:custGeom>
                <a:ln w="12600">
                  <a:solidFill>
                    <a:srgbClr val="804000"/>
                  </a:solidFill>
                  <a:round/>
                </a:ln>
              </p:spPr>
              <p:txBody>
                <a:bodyPr lIns="96120" rIns="9612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174840" y="3557520"/>
                <a:ext cx="425880" cy="356040"/>
              </a:xfrm>
              <a:custGeom>
                <a:avLst/>
                <a:gdLst/>
                <a:ahLst/>
                <a:rect l="0" t="0" r="r" b="b"/>
                <a:pathLst>
                  <a:path w="1183" h="989">
                    <a:moveTo>
                      <a:pt x="1130" y="79"/>
                    </a:moveTo>
                    <a:lnTo>
                      <a:pt x="1042" y="39"/>
                    </a:lnTo>
                    <a:lnTo>
                      <a:pt x="941" y="22"/>
                    </a:lnTo>
                    <a:lnTo>
                      <a:pt x="865" y="13"/>
                    </a:lnTo>
                    <a:lnTo>
                      <a:pt x="755" y="0"/>
                    </a:lnTo>
                    <a:lnTo>
                      <a:pt x="636" y="0"/>
                    </a:lnTo>
                    <a:lnTo>
                      <a:pt x="508" y="13"/>
                    </a:lnTo>
                    <a:lnTo>
                      <a:pt x="424" y="35"/>
                    </a:lnTo>
                    <a:lnTo>
                      <a:pt x="282" y="88"/>
                    </a:lnTo>
                    <a:lnTo>
                      <a:pt x="171" y="127"/>
                    </a:lnTo>
                    <a:lnTo>
                      <a:pt x="211" y="154"/>
                    </a:lnTo>
                    <a:lnTo>
                      <a:pt x="132" y="242"/>
                    </a:lnTo>
                    <a:lnTo>
                      <a:pt x="70" y="309"/>
                    </a:lnTo>
                    <a:lnTo>
                      <a:pt x="145" y="331"/>
                    </a:lnTo>
                    <a:lnTo>
                      <a:pt x="48" y="433"/>
                    </a:lnTo>
                    <a:lnTo>
                      <a:pt x="114" y="424"/>
                    </a:lnTo>
                    <a:lnTo>
                      <a:pt x="13" y="556"/>
                    </a:lnTo>
                    <a:lnTo>
                      <a:pt x="79" y="583"/>
                    </a:lnTo>
                    <a:lnTo>
                      <a:pt x="52" y="613"/>
                    </a:lnTo>
                    <a:lnTo>
                      <a:pt x="30" y="649"/>
                    </a:lnTo>
                    <a:lnTo>
                      <a:pt x="0" y="719"/>
                    </a:lnTo>
                    <a:lnTo>
                      <a:pt x="70" y="697"/>
                    </a:lnTo>
                    <a:lnTo>
                      <a:pt x="132" y="773"/>
                    </a:lnTo>
                    <a:lnTo>
                      <a:pt x="163" y="760"/>
                    </a:lnTo>
                    <a:lnTo>
                      <a:pt x="202" y="756"/>
                    </a:lnTo>
                    <a:lnTo>
                      <a:pt x="246" y="760"/>
                    </a:lnTo>
                    <a:lnTo>
                      <a:pt x="282" y="778"/>
                    </a:lnTo>
                    <a:lnTo>
                      <a:pt x="305" y="817"/>
                    </a:lnTo>
                    <a:lnTo>
                      <a:pt x="318" y="857"/>
                    </a:lnTo>
                    <a:lnTo>
                      <a:pt x="331" y="883"/>
                    </a:lnTo>
                    <a:lnTo>
                      <a:pt x="358" y="914"/>
                    </a:lnTo>
                    <a:lnTo>
                      <a:pt x="380" y="936"/>
                    </a:lnTo>
                    <a:lnTo>
                      <a:pt x="415" y="989"/>
                    </a:lnTo>
                    <a:lnTo>
                      <a:pt x="406" y="914"/>
                    </a:lnTo>
                    <a:lnTo>
                      <a:pt x="415" y="879"/>
                    </a:lnTo>
                    <a:lnTo>
                      <a:pt x="441" y="835"/>
                    </a:lnTo>
                    <a:lnTo>
                      <a:pt x="481" y="786"/>
                    </a:lnTo>
                    <a:lnTo>
                      <a:pt x="525" y="733"/>
                    </a:lnTo>
                    <a:lnTo>
                      <a:pt x="547" y="693"/>
                    </a:lnTo>
                    <a:lnTo>
                      <a:pt x="565" y="662"/>
                    </a:lnTo>
                    <a:lnTo>
                      <a:pt x="605" y="640"/>
                    </a:lnTo>
                    <a:lnTo>
                      <a:pt x="658" y="613"/>
                    </a:lnTo>
                    <a:lnTo>
                      <a:pt x="675" y="591"/>
                    </a:lnTo>
                    <a:lnTo>
                      <a:pt x="693" y="561"/>
                    </a:lnTo>
                    <a:lnTo>
                      <a:pt x="706" y="530"/>
                    </a:lnTo>
                    <a:lnTo>
                      <a:pt x="697" y="455"/>
                    </a:lnTo>
                    <a:lnTo>
                      <a:pt x="680" y="406"/>
                    </a:lnTo>
                    <a:lnTo>
                      <a:pt x="653" y="375"/>
                    </a:lnTo>
                    <a:lnTo>
                      <a:pt x="640" y="349"/>
                    </a:lnTo>
                    <a:lnTo>
                      <a:pt x="622" y="327"/>
                    </a:lnTo>
                    <a:lnTo>
                      <a:pt x="609" y="300"/>
                    </a:lnTo>
                    <a:lnTo>
                      <a:pt x="613" y="261"/>
                    </a:lnTo>
                    <a:lnTo>
                      <a:pt x="627" y="224"/>
                    </a:lnTo>
                    <a:lnTo>
                      <a:pt x="658" y="198"/>
                    </a:lnTo>
                    <a:lnTo>
                      <a:pt x="693" y="185"/>
                    </a:lnTo>
                    <a:lnTo>
                      <a:pt x="733" y="171"/>
                    </a:lnTo>
                    <a:lnTo>
                      <a:pt x="781" y="171"/>
                    </a:lnTo>
                    <a:lnTo>
                      <a:pt x="755" y="145"/>
                    </a:lnTo>
                    <a:lnTo>
                      <a:pt x="755" y="127"/>
                    </a:lnTo>
                    <a:lnTo>
                      <a:pt x="768" y="114"/>
                    </a:lnTo>
                    <a:lnTo>
                      <a:pt x="794" y="105"/>
                    </a:lnTo>
                    <a:lnTo>
                      <a:pt x="838" y="110"/>
                    </a:lnTo>
                    <a:lnTo>
                      <a:pt x="882" y="114"/>
                    </a:lnTo>
                    <a:lnTo>
                      <a:pt x="914" y="114"/>
                    </a:lnTo>
                    <a:lnTo>
                      <a:pt x="958" y="97"/>
                    </a:lnTo>
                    <a:lnTo>
                      <a:pt x="998" y="83"/>
                    </a:lnTo>
                    <a:lnTo>
                      <a:pt x="1047" y="88"/>
                    </a:lnTo>
                    <a:lnTo>
                      <a:pt x="1095" y="92"/>
                    </a:lnTo>
                    <a:lnTo>
                      <a:pt x="1183" y="114"/>
                    </a:lnTo>
                    <a:lnTo>
                      <a:pt x="1130" y="79"/>
                    </a:lnTo>
                    <a:close/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736720" y="5784840"/>
              <a:ext cx="794160" cy="151200"/>
              <a:chOff x="2736720" y="5784840"/>
              <a:chExt cx="794160" cy="1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3027240" y="5784840"/>
                <a:ext cx="503640" cy="125640"/>
              </a:xfrm>
              <a:custGeom>
                <a:avLst/>
                <a:gdLst/>
                <a:ahLst/>
                <a:rect l="0" t="0" r="r" b="b"/>
                <a:pathLst>
                  <a:path w="1399" h="349">
                    <a:moveTo>
                      <a:pt x="0" y="61"/>
                    </a:moveTo>
                    <a:lnTo>
                      <a:pt x="0" y="274"/>
                    </a:lnTo>
                    <a:lnTo>
                      <a:pt x="375" y="274"/>
                    </a:lnTo>
                    <a:lnTo>
                      <a:pt x="384" y="230"/>
                    </a:lnTo>
                    <a:lnTo>
                      <a:pt x="459" y="274"/>
                    </a:lnTo>
                    <a:lnTo>
                      <a:pt x="596" y="309"/>
                    </a:lnTo>
                    <a:lnTo>
                      <a:pt x="768" y="340"/>
                    </a:lnTo>
                    <a:lnTo>
                      <a:pt x="913" y="349"/>
                    </a:lnTo>
                    <a:lnTo>
                      <a:pt x="1051" y="340"/>
                    </a:lnTo>
                    <a:lnTo>
                      <a:pt x="1249" y="327"/>
                    </a:lnTo>
                    <a:lnTo>
                      <a:pt x="1320" y="318"/>
                    </a:lnTo>
                    <a:lnTo>
                      <a:pt x="1399" y="296"/>
                    </a:lnTo>
                    <a:lnTo>
                      <a:pt x="1399" y="239"/>
                    </a:lnTo>
                    <a:lnTo>
                      <a:pt x="1391" y="212"/>
                    </a:lnTo>
                    <a:lnTo>
                      <a:pt x="1364" y="181"/>
                    </a:lnTo>
                    <a:lnTo>
                      <a:pt x="1338" y="158"/>
                    </a:lnTo>
                    <a:lnTo>
                      <a:pt x="1298" y="136"/>
                    </a:lnTo>
                    <a:lnTo>
                      <a:pt x="1227" y="105"/>
                    </a:lnTo>
                    <a:lnTo>
                      <a:pt x="1157" y="79"/>
                    </a:lnTo>
                    <a:lnTo>
                      <a:pt x="1077" y="57"/>
                    </a:lnTo>
                    <a:lnTo>
                      <a:pt x="997" y="39"/>
                    </a:lnTo>
                    <a:lnTo>
                      <a:pt x="715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201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36720" y="5813280"/>
                <a:ext cx="503640" cy="122760"/>
              </a:xfrm>
              <a:custGeom>
                <a:avLst/>
                <a:gdLst/>
                <a:ahLst/>
                <a:rect l="0" t="0" r="r" b="b"/>
                <a:pathLst>
                  <a:path w="1399" h="341">
                    <a:moveTo>
                      <a:pt x="0" y="66"/>
                    </a:moveTo>
                    <a:lnTo>
                      <a:pt x="0" y="275"/>
                    </a:lnTo>
                    <a:lnTo>
                      <a:pt x="375" y="275"/>
                    </a:lnTo>
                    <a:lnTo>
                      <a:pt x="380" y="234"/>
                    </a:lnTo>
                    <a:lnTo>
                      <a:pt x="459" y="275"/>
                    </a:lnTo>
                    <a:lnTo>
                      <a:pt x="622" y="301"/>
                    </a:lnTo>
                    <a:lnTo>
                      <a:pt x="821" y="328"/>
                    </a:lnTo>
                    <a:lnTo>
                      <a:pt x="1037" y="341"/>
                    </a:lnTo>
                    <a:lnTo>
                      <a:pt x="1232" y="341"/>
                    </a:lnTo>
                    <a:lnTo>
                      <a:pt x="1324" y="319"/>
                    </a:lnTo>
                    <a:lnTo>
                      <a:pt x="1399" y="301"/>
                    </a:lnTo>
                    <a:lnTo>
                      <a:pt x="1399" y="247"/>
                    </a:lnTo>
                    <a:lnTo>
                      <a:pt x="1391" y="217"/>
                    </a:lnTo>
                    <a:lnTo>
                      <a:pt x="1369" y="186"/>
                    </a:lnTo>
                    <a:lnTo>
                      <a:pt x="1338" y="164"/>
                    </a:lnTo>
                    <a:lnTo>
                      <a:pt x="1298" y="142"/>
                    </a:lnTo>
                    <a:lnTo>
                      <a:pt x="1232" y="111"/>
                    </a:lnTo>
                    <a:lnTo>
                      <a:pt x="1157" y="83"/>
                    </a:lnTo>
                    <a:lnTo>
                      <a:pt x="1082" y="61"/>
                    </a:lnTo>
                    <a:lnTo>
                      <a:pt x="997" y="39"/>
                    </a:lnTo>
                    <a:lnTo>
                      <a:pt x="715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201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933640" y="5027760"/>
              <a:ext cx="470160" cy="776520"/>
            </a:xfrm>
            <a:custGeom>
              <a:avLst/>
              <a:gdLst/>
              <a:ahLst/>
              <a:rect l="0" t="0" r="r" b="b"/>
              <a:pathLst>
                <a:path w="1306" h="2157">
                  <a:moveTo>
                    <a:pt x="896" y="0"/>
                  </a:moveTo>
                  <a:lnTo>
                    <a:pt x="1240" y="851"/>
                  </a:lnTo>
                  <a:lnTo>
                    <a:pt x="1266" y="912"/>
                  </a:lnTo>
                  <a:lnTo>
                    <a:pt x="1288" y="987"/>
                  </a:lnTo>
                  <a:lnTo>
                    <a:pt x="1306" y="1094"/>
                  </a:lnTo>
                  <a:lnTo>
                    <a:pt x="1288" y="1196"/>
                  </a:lnTo>
                  <a:lnTo>
                    <a:pt x="1173" y="1544"/>
                  </a:lnTo>
                  <a:lnTo>
                    <a:pt x="1129" y="1654"/>
                  </a:lnTo>
                  <a:lnTo>
                    <a:pt x="1107" y="1764"/>
                  </a:lnTo>
                  <a:lnTo>
                    <a:pt x="1156" y="1831"/>
                  </a:lnTo>
                  <a:lnTo>
                    <a:pt x="1165" y="1879"/>
                  </a:lnTo>
                  <a:lnTo>
                    <a:pt x="1116" y="1928"/>
                  </a:lnTo>
                  <a:lnTo>
                    <a:pt x="1054" y="1994"/>
                  </a:lnTo>
                  <a:lnTo>
                    <a:pt x="1116" y="2051"/>
                  </a:lnTo>
                  <a:lnTo>
                    <a:pt x="1173" y="2157"/>
                  </a:lnTo>
                  <a:lnTo>
                    <a:pt x="242" y="2144"/>
                  </a:lnTo>
                  <a:lnTo>
                    <a:pt x="202" y="1910"/>
                  </a:lnTo>
                  <a:lnTo>
                    <a:pt x="233" y="1711"/>
                  </a:lnTo>
                  <a:lnTo>
                    <a:pt x="317" y="1531"/>
                  </a:lnTo>
                  <a:lnTo>
                    <a:pt x="366" y="1429"/>
                  </a:lnTo>
                  <a:lnTo>
                    <a:pt x="595" y="1129"/>
                  </a:lnTo>
                  <a:lnTo>
                    <a:pt x="529" y="978"/>
                  </a:lnTo>
                  <a:lnTo>
                    <a:pt x="0" y="22"/>
                  </a:lnTo>
                  <a:lnTo>
                    <a:pt x="896" y="0"/>
                  </a:lnTo>
                  <a:close/>
                </a:path>
              </a:pathLst>
            </a:custGeom>
            <a:solidFill>
              <a:srgbClr val="603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81280" y="4984920"/>
              <a:ext cx="541800" cy="862200"/>
            </a:xfrm>
            <a:custGeom>
              <a:avLst/>
              <a:gdLst/>
              <a:ahLst/>
              <a:rect l="0" t="0" r="r" b="b"/>
              <a:pathLst>
                <a:path w="1505" h="2395">
                  <a:moveTo>
                    <a:pt x="0" y="83"/>
                  </a:moveTo>
                  <a:lnTo>
                    <a:pt x="119" y="493"/>
                  </a:lnTo>
                  <a:lnTo>
                    <a:pt x="149" y="595"/>
                  </a:lnTo>
                  <a:lnTo>
                    <a:pt x="189" y="683"/>
                  </a:lnTo>
                  <a:lnTo>
                    <a:pt x="224" y="762"/>
                  </a:lnTo>
                  <a:lnTo>
                    <a:pt x="277" y="859"/>
                  </a:lnTo>
                  <a:lnTo>
                    <a:pt x="321" y="921"/>
                  </a:lnTo>
                  <a:lnTo>
                    <a:pt x="361" y="974"/>
                  </a:lnTo>
                  <a:lnTo>
                    <a:pt x="446" y="1062"/>
                  </a:lnTo>
                  <a:lnTo>
                    <a:pt x="530" y="1155"/>
                  </a:lnTo>
                  <a:lnTo>
                    <a:pt x="596" y="1195"/>
                  </a:lnTo>
                  <a:lnTo>
                    <a:pt x="512" y="1248"/>
                  </a:lnTo>
                  <a:lnTo>
                    <a:pt x="578" y="1363"/>
                  </a:lnTo>
                  <a:lnTo>
                    <a:pt x="446" y="1548"/>
                  </a:lnTo>
                  <a:lnTo>
                    <a:pt x="343" y="1641"/>
                  </a:lnTo>
                  <a:lnTo>
                    <a:pt x="304" y="1681"/>
                  </a:lnTo>
                  <a:lnTo>
                    <a:pt x="268" y="1738"/>
                  </a:lnTo>
                  <a:lnTo>
                    <a:pt x="238" y="1795"/>
                  </a:lnTo>
                  <a:lnTo>
                    <a:pt x="216" y="1848"/>
                  </a:lnTo>
                  <a:lnTo>
                    <a:pt x="194" y="1892"/>
                  </a:lnTo>
                  <a:lnTo>
                    <a:pt x="171" y="1950"/>
                  </a:lnTo>
                  <a:lnTo>
                    <a:pt x="154" y="2029"/>
                  </a:lnTo>
                  <a:lnTo>
                    <a:pt x="149" y="2126"/>
                  </a:lnTo>
                  <a:lnTo>
                    <a:pt x="149" y="2227"/>
                  </a:lnTo>
                  <a:lnTo>
                    <a:pt x="154" y="2395"/>
                  </a:lnTo>
                  <a:lnTo>
                    <a:pt x="1148" y="2346"/>
                  </a:lnTo>
                  <a:lnTo>
                    <a:pt x="1090" y="2289"/>
                  </a:lnTo>
                  <a:lnTo>
                    <a:pt x="1081" y="2241"/>
                  </a:lnTo>
                  <a:lnTo>
                    <a:pt x="1076" y="2205"/>
                  </a:lnTo>
                  <a:lnTo>
                    <a:pt x="1112" y="2064"/>
                  </a:lnTo>
                  <a:lnTo>
                    <a:pt x="1010" y="2055"/>
                  </a:lnTo>
                  <a:lnTo>
                    <a:pt x="1130" y="1963"/>
                  </a:lnTo>
                  <a:lnTo>
                    <a:pt x="1461" y="1482"/>
                  </a:lnTo>
                  <a:lnTo>
                    <a:pt x="1483" y="1434"/>
                  </a:lnTo>
                  <a:lnTo>
                    <a:pt x="1496" y="1381"/>
                  </a:lnTo>
                  <a:lnTo>
                    <a:pt x="1505" y="1323"/>
                  </a:lnTo>
                  <a:lnTo>
                    <a:pt x="1505" y="1262"/>
                  </a:lnTo>
                  <a:lnTo>
                    <a:pt x="1492" y="1209"/>
                  </a:lnTo>
                  <a:lnTo>
                    <a:pt x="1479" y="1155"/>
                  </a:lnTo>
                  <a:lnTo>
                    <a:pt x="1443" y="1080"/>
                  </a:lnTo>
                  <a:lnTo>
                    <a:pt x="1276" y="714"/>
                  </a:lnTo>
                  <a:lnTo>
                    <a:pt x="971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603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54400" y="4164120"/>
              <a:ext cx="241560" cy="271800"/>
            </a:xfrm>
            <a:custGeom>
              <a:avLst/>
              <a:gdLst/>
              <a:ahLst/>
              <a:rect l="0" t="0" r="r" b="b"/>
              <a:pathLst>
                <a:path w="671" h="755">
                  <a:moveTo>
                    <a:pt x="0" y="0"/>
                  </a:moveTo>
                  <a:lnTo>
                    <a:pt x="556" y="464"/>
                  </a:lnTo>
                  <a:lnTo>
                    <a:pt x="671" y="7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7760" y="4330800"/>
              <a:ext cx="197280" cy="673560"/>
            </a:xfrm>
            <a:custGeom>
              <a:avLst/>
              <a:gdLst/>
              <a:ahLst/>
              <a:rect l="0" t="0" r="r" b="b"/>
              <a:pathLst>
                <a:path w="548" h="1871">
                  <a:moveTo>
                    <a:pt x="389" y="123"/>
                  </a:moveTo>
                  <a:lnTo>
                    <a:pt x="425" y="171"/>
                  </a:lnTo>
                  <a:lnTo>
                    <a:pt x="460" y="233"/>
                  </a:lnTo>
                  <a:lnTo>
                    <a:pt x="491" y="299"/>
                  </a:lnTo>
                  <a:lnTo>
                    <a:pt x="517" y="379"/>
                  </a:lnTo>
                  <a:lnTo>
                    <a:pt x="535" y="454"/>
                  </a:lnTo>
                  <a:lnTo>
                    <a:pt x="544" y="534"/>
                  </a:lnTo>
                  <a:lnTo>
                    <a:pt x="548" y="618"/>
                  </a:lnTo>
                  <a:lnTo>
                    <a:pt x="544" y="755"/>
                  </a:lnTo>
                  <a:lnTo>
                    <a:pt x="531" y="852"/>
                  </a:lnTo>
                  <a:lnTo>
                    <a:pt x="509" y="971"/>
                  </a:lnTo>
                  <a:lnTo>
                    <a:pt x="491" y="1046"/>
                  </a:lnTo>
                  <a:lnTo>
                    <a:pt x="469" y="1156"/>
                  </a:lnTo>
                  <a:lnTo>
                    <a:pt x="442" y="1248"/>
                  </a:lnTo>
                  <a:lnTo>
                    <a:pt x="416" y="1323"/>
                  </a:lnTo>
                  <a:lnTo>
                    <a:pt x="389" y="1394"/>
                  </a:lnTo>
                  <a:lnTo>
                    <a:pt x="358" y="1461"/>
                  </a:lnTo>
                  <a:lnTo>
                    <a:pt x="322" y="1527"/>
                  </a:lnTo>
                  <a:lnTo>
                    <a:pt x="283" y="1593"/>
                  </a:lnTo>
                  <a:lnTo>
                    <a:pt x="243" y="1646"/>
                  </a:lnTo>
                  <a:lnTo>
                    <a:pt x="203" y="1699"/>
                  </a:lnTo>
                  <a:lnTo>
                    <a:pt x="150" y="1757"/>
                  </a:lnTo>
                  <a:lnTo>
                    <a:pt x="97" y="1796"/>
                  </a:lnTo>
                  <a:lnTo>
                    <a:pt x="0" y="1871"/>
                  </a:lnTo>
                  <a:lnTo>
                    <a:pt x="0" y="0"/>
                  </a:lnTo>
                  <a:lnTo>
                    <a:pt x="318" y="26"/>
                  </a:lnTo>
                  <a:lnTo>
                    <a:pt x="389" y="12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429360" y="4321080"/>
              <a:ext cx="98280" cy="707040"/>
              <a:chOff x="3429360" y="4321080"/>
              <a:chExt cx="98280" cy="707040"/>
            </a:xfrm>
          </p:grpSpPr>
          <p:sp>
            <p:nvSpPr>
              <p:cNvPr id="178" name=""/>
              <p:cNvSpPr/>
              <p:nvPr/>
            </p:nvSpPr>
            <p:spPr>
              <a:xfrm>
                <a:off x="3438360" y="4373640"/>
                <a:ext cx="89280" cy="654480"/>
              </a:xfrm>
              <a:custGeom>
                <a:avLst/>
                <a:gdLst/>
                <a:ahLst/>
                <a:rect l="0" t="0" r="r" b="b"/>
                <a:pathLst>
                  <a:path w="248" h="1818">
                    <a:moveTo>
                      <a:pt x="0" y="0"/>
                    </a:moveTo>
                    <a:lnTo>
                      <a:pt x="57" y="30"/>
                    </a:lnTo>
                    <a:lnTo>
                      <a:pt x="102" y="88"/>
                    </a:lnTo>
                    <a:lnTo>
                      <a:pt x="124" y="127"/>
                    </a:lnTo>
                    <a:lnTo>
                      <a:pt x="142" y="158"/>
                    </a:lnTo>
                    <a:lnTo>
                      <a:pt x="168" y="202"/>
                    </a:lnTo>
                    <a:lnTo>
                      <a:pt x="187" y="260"/>
                    </a:lnTo>
                    <a:lnTo>
                      <a:pt x="209" y="326"/>
                    </a:lnTo>
                    <a:lnTo>
                      <a:pt x="231" y="414"/>
                    </a:lnTo>
                    <a:lnTo>
                      <a:pt x="240" y="486"/>
                    </a:lnTo>
                    <a:lnTo>
                      <a:pt x="248" y="565"/>
                    </a:lnTo>
                    <a:lnTo>
                      <a:pt x="248" y="671"/>
                    </a:lnTo>
                    <a:lnTo>
                      <a:pt x="235" y="825"/>
                    </a:lnTo>
                    <a:lnTo>
                      <a:pt x="218" y="962"/>
                    </a:lnTo>
                    <a:lnTo>
                      <a:pt x="142" y="1633"/>
                    </a:lnTo>
                    <a:lnTo>
                      <a:pt x="67" y="1818"/>
                    </a:lnTo>
                    <a:lnTo>
                      <a:pt x="17" y="1567"/>
                    </a:lnTo>
                    <a:lnTo>
                      <a:pt x="48" y="1301"/>
                    </a:lnTo>
                    <a:lnTo>
                      <a:pt x="75" y="1125"/>
                    </a:lnTo>
                    <a:lnTo>
                      <a:pt x="89" y="988"/>
                    </a:lnTo>
                    <a:lnTo>
                      <a:pt x="98" y="847"/>
                    </a:lnTo>
                    <a:lnTo>
                      <a:pt x="106" y="706"/>
                    </a:lnTo>
                    <a:lnTo>
                      <a:pt x="111" y="622"/>
                    </a:lnTo>
                    <a:lnTo>
                      <a:pt x="106" y="547"/>
                    </a:lnTo>
                    <a:lnTo>
                      <a:pt x="102" y="472"/>
                    </a:lnTo>
                    <a:lnTo>
                      <a:pt x="80" y="330"/>
                    </a:lnTo>
                    <a:lnTo>
                      <a:pt x="75" y="277"/>
                    </a:lnTo>
                    <a:lnTo>
                      <a:pt x="61" y="220"/>
                    </a:lnTo>
                    <a:lnTo>
                      <a:pt x="52" y="1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360" y="4321080"/>
                <a:ext cx="36360" cy="69480"/>
              </a:xfrm>
              <a:custGeom>
                <a:avLst/>
                <a:gdLst/>
                <a:ahLst/>
                <a:rect l="0" t="0" r="r" b="b"/>
                <a:pathLst>
                  <a:path w="101" h="193">
                    <a:moveTo>
                      <a:pt x="3" y="137"/>
                    </a:moveTo>
                    <a:lnTo>
                      <a:pt x="92" y="193"/>
                    </a:lnTo>
                    <a:lnTo>
                      <a:pt x="92" y="193"/>
                    </a:lnTo>
                    <a:cubicBezTo>
                      <a:pt x="98" y="175"/>
                      <a:pt x="101" y="156"/>
                      <a:pt x="101" y="137"/>
                    </a:cubicBezTo>
                    <a:cubicBezTo>
                      <a:pt x="101" y="113"/>
                      <a:pt x="96" y="89"/>
                      <a:pt x="87" y="68"/>
                    </a:cubicBezTo>
                    <a:cubicBezTo>
                      <a:pt x="79" y="48"/>
                      <a:pt x="67" y="30"/>
                      <a:pt x="52" y="18"/>
                    </a:cubicBezTo>
                    <a:cubicBezTo>
                      <a:pt x="37" y="6"/>
                      <a:pt x="20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lnTo>
                      <a:pt x="3" y="137"/>
                    </a:lnTo>
                    <a:close/>
                  </a:path>
                </a:pathLst>
              </a:custGeom>
              <a:solidFill>
                <a:srgbClr val="000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519280" y="4159080"/>
              <a:ext cx="927360" cy="1013040"/>
            </a:xfrm>
            <a:custGeom>
              <a:avLst/>
              <a:gdLst/>
              <a:ahLst/>
              <a:rect l="0" t="0" r="r" b="b"/>
              <a:pathLst>
                <a:path w="2576" h="2814">
                  <a:moveTo>
                    <a:pt x="2055" y="17"/>
                  </a:moveTo>
                  <a:lnTo>
                    <a:pt x="1998" y="0"/>
                  </a:lnTo>
                  <a:lnTo>
                    <a:pt x="1945" y="8"/>
                  </a:lnTo>
                  <a:lnTo>
                    <a:pt x="1879" y="22"/>
                  </a:lnTo>
                  <a:lnTo>
                    <a:pt x="1822" y="44"/>
                  </a:lnTo>
                  <a:lnTo>
                    <a:pt x="1760" y="70"/>
                  </a:lnTo>
                  <a:lnTo>
                    <a:pt x="1716" y="101"/>
                  </a:lnTo>
                  <a:lnTo>
                    <a:pt x="1641" y="154"/>
                  </a:lnTo>
                  <a:lnTo>
                    <a:pt x="1584" y="202"/>
                  </a:lnTo>
                  <a:lnTo>
                    <a:pt x="1513" y="286"/>
                  </a:lnTo>
                  <a:lnTo>
                    <a:pt x="1239" y="612"/>
                  </a:lnTo>
                  <a:lnTo>
                    <a:pt x="1080" y="784"/>
                  </a:lnTo>
                  <a:lnTo>
                    <a:pt x="895" y="948"/>
                  </a:lnTo>
                  <a:lnTo>
                    <a:pt x="683" y="1128"/>
                  </a:lnTo>
                  <a:lnTo>
                    <a:pt x="498" y="1261"/>
                  </a:lnTo>
                  <a:lnTo>
                    <a:pt x="224" y="1456"/>
                  </a:lnTo>
                  <a:lnTo>
                    <a:pt x="17" y="1597"/>
                  </a:lnTo>
                  <a:lnTo>
                    <a:pt x="0" y="1760"/>
                  </a:lnTo>
                  <a:lnTo>
                    <a:pt x="0" y="1910"/>
                  </a:lnTo>
                  <a:lnTo>
                    <a:pt x="13" y="2020"/>
                  </a:lnTo>
                  <a:lnTo>
                    <a:pt x="30" y="2144"/>
                  </a:lnTo>
                  <a:lnTo>
                    <a:pt x="48" y="2223"/>
                  </a:lnTo>
                  <a:lnTo>
                    <a:pt x="83" y="2302"/>
                  </a:lnTo>
                  <a:lnTo>
                    <a:pt x="114" y="2377"/>
                  </a:lnTo>
                  <a:lnTo>
                    <a:pt x="158" y="2448"/>
                  </a:lnTo>
                  <a:lnTo>
                    <a:pt x="220" y="2527"/>
                  </a:lnTo>
                  <a:lnTo>
                    <a:pt x="282" y="2580"/>
                  </a:lnTo>
                  <a:lnTo>
                    <a:pt x="361" y="2633"/>
                  </a:lnTo>
                  <a:lnTo>
                    <a:pt x="440" y="2682"/>
                  </a:lnTo>
                  <a:lnTo>
                    <a:pt x="546" y="2726"/>
                  </a:lnTo>
                  <a:lnTo>
                    <a:pt x="670" y="2765"/>
                  </a:lnTo>
                  <a:lnTo>
                    <a:pt x="776" y="2787"/>
                  </a:lnTo>
                  <a:lnTo>
                    <a:pt x="881" y="2805"/>
                  </a:lnTo>
                  <a:lnTo>
                    <a:pt x="992" y="2814"/>
                  </a:lnTo>
                  <a:lnTo>
                    <a:pt x="1111" y="2809"/>
                  </a:lnTo>
                  <a:lnTo>
                    <a:pt x="1199" y="2796"/>
                  </a:lnTo>
                  <a:lnTo>
                    <a:pt x="1278" y="2779"/>
                  </a:lnTo>
                  <a:lnTo>
                    <a:pt x="1381" y="2752"/>
                  </a:lnTo>
                  <a:lnTo>
                    <a:pt x="1487" y="2708"/>
                  </a:lnTo>
                  <a:lnTo>
                    <a:pt x="1747" y="2602"/>
                  </a:lnTo>
                  <a:lnTo>
                    <a:pt x="1972" y="2496"/>
                  </a:lnTo>
                  <a:lnTo>
                    <a:pt x="2192" y="2342"/>
                  </a:lnTo>
                  <a:lnTo>
                    <a:pt x="2258" y="2267"/>
                  </a:lnTo>
                  <a:lnTo>
                    <a:pt x="2329" y="2188"/>
                  </a:lnTo>
                  <a:lnTo>
                    <a:pt x="2395" y="2091"/>
                  </a:lnTo>
                  <a:lnTo>
                    <a:pt x="2461" y="1954"/>
                  </a:lnTo>
                  <a:lnTo>
                    <a:pt x="2510" y="1835"/>
                  </a:lnTo>
                  <a:lnTo>
                    <a:pt x="2541" y="1738"/>
                  </a:lnTo>
                  <a:lnTo>
                    <a:pt x="2563" y="1637"/>
                  </a:lnTo>
                  <a:lnTo>
                    <a:pt x="2576" y="1522"/>
                  </a:lnTo>
                  <a:lnTo>
                    <a:pt x="2576" y="1416"/>
                  </a:lnTo>
                  <a:lnTo>
                    <a:pt x="2576" y="1314"/>
                  </a:lnTo>
                  <a:lnTo>
                    <a:pt x="2571" y="1203"/>
                  </a:lnTo>
                  <a:lnTo>
                    <a:pt x="2567" y="1075"/>
                  </a:lnTo>
                  <a:lnTo>
                    <a:pt x="2563" y="992"/>
                  </a:lnTo>
                  <a:lnTo>
                    <a:pt x="2549" y="873"/>
                  </a:lnTo>
                  <a:lnTo>
                    <a:pt x="2541" y="784"/>
                  </a:lnTo>
                  <a:lnTo>
                    <a:pt x="2523" y="718"/>
                  </a:lnTo>
                  <a:lnTo>
                    <a:pt x="2501" y="657"/>
                  </a:lnTo>
                  <a:lnTo>
                    <a:pt x="2479" y="595"/>
                  </a:lnTo>
                  <a:lnTo>
                    <a:pt x="2443" y="533"/>
                  </a:lnTo>
                  <a:lnTo>
                    <a:pt x="2404" y="476"/>
                  </a:lnTo>
                  <a:lnTo>
                    <a:pt x="2364" y="414"/>
                  </a:lnTo>
                  <a:lnTo>
                    <a:pt x="2320" y="352"/>
                  </a:lnTo>
                  <a:lnTo>
                    <a:pt x="2055" y="17"/>
                  </a:lnTo>
                  <a:close/>
                </a:path>
              </a:pathLst>
            </a:custGeom>
            <a:solidFill>
              <a:srgbClr val="8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4400" y="4162320"/>
              <a:ext cx="200520" cy="271800"/>
            </a:xfrm>
            <a:custGeom>
              <a:avLst/>
              <a:gdLst/>
              <a:ahLst/>
              <a:rect l="0" t="0" r="r" b="b"/>
              <a:pathLst>
                <a:path w="557" h="755">
                  <a:moveTo>
                    <a:pt x="0" y="0"/>
                  </a:moveTo>
                  <a:lnTo>
                    <a:pt x="557" y="472"/>
                  </a:lnTo>
                  <a:lnTo>
                    <a:pt x="425" y="7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54400" y="4162320"/>
              <a:ext cx="198720" cy="832320"/>
            </a:xfrm>
            <a:custGeom>
              <a:avLst/>
              <a:gdLst/>
              <a:ahLst/>
              <a:rect l="0" t="0" r="r" b="b"/>
              <a:pathLst>
                <a:path w="552" h="2312">
                  <a:moveTo>
                    <a:pt x="0" y="0"/>
                  </a:moveTo>
                  <a:lnTo>
                    <a:pt x="105" y="273"/>
                  </a:lnTo>
                  <a:lnTo>
                    <a:pt x="176" y="502"/>
                  </a:lnTo>
                  <a:lnTo>
                    <a:pt x="202" y="653"/>
                  </a:lnTo>
                  <a:lnTo>
                    <a:pt x="371" y="622"/>
                  </a:lnTo>
                  <a:lnTo>
                    <a:pt x="273" y="869"/>
                  </a:lnTo>
                  <a:lnTo>
                    <a:pt x="327" y="909"/>
                  </a:lnTo>
                  <a:lnTo>
                    <a:pt x="371" y="971"/>
                  </a:lnTo>
                  <a:lnTo>
                    <a:pt x="393" y="1054"/>
                  </a:lnTo>
                  <a:lnTo>
                    <a:pt x="411" y="1200"/>
                  </a:lnTo>
                  <a:lnTo>
                    <a:pt x="419" y="1376"/>
                  </a:lnTo>
                  <a:lnTo>
                    <a:pt x="424" y="1460"/>
                  </a:lnTo>
                  <a:lnTo>
                    <a:pt x="419" y="1553"/>
                  </a:lnTo>
                  <a:lnTo>
                    <a:pt x="411" y="1632"/>
                  </a:lnTo>
                  <a:lnTo>
                    <a:pt x="397" y="1770"/>
                  </a:lnTo>
                  <a:lnTo>
                    <a:pt x="384" y="1840"/>
                  </a:lnTo>
                  <a:lnTo>
                    <a:pt x="371" y="1915"/>
                  </a:lnTo>
                  <a:lnTo>
                    <a:pt x="353" y="1968"/>
                  </a:lnTo>
                  <a:lnTo>
                    <a:pt x="331" y="2039"/>
                  </a:lnTo>
                  <a:lnTo>
                    <a:pt x="314" y="2083"/>
                  </a:lnTo>
                  <a:lnTo>
                    <a:pt x="287" y="2136"/>
                  </a:lnTo>
                  <a:lnTo>
                    <a:pt x="251" y="2189"/>
                  </a:lnTo>
                  <a:lnTo>
                    <a:pt x="216" y="2233"/>
                  </a:lnTo>
                  <a:lnTo>
                    <a:pt x="158" y="2312"/>
                  </a:lnTo>
                  <a:lnTo>
                    <a:pt x="229" y="2259"/>
                  </a:lnTo>
                  <a:lnTo>
                    <a:pt x="287" y="2193"/>
                  </a:lnTo>
                  <a:lnTo>
                    <a:pt x="327" y="2140"/>
                  </a:lnTo>
                  <a:lnTo>
                    <a:pt x="367" y="2083"/>
                  </a:lnTo>
                  <a:lnTo>
                    <a:pt x="397" y="2021"/>
                  </a:lnTo>
                  <a:lnTo>
                    <a:pt x="433" y="1951"/>
                  </a:lnTo>
                  <a:lnTo>
                    <a:pt x="468" y="1871"/>
                  </a:lnTo>
                  <a:lnTo>
                    <a:pt x="486" y="1809"/>
                  </a:lnTo>
                  <a:lnTo>
                    <a:pt x="512" y="1725"/>
                  </a:lnTo>
                  <a:lnTo>
                    <a:pt x="525" y="1654"/>
                  </a:lnTo>
                  <a:lnTo>
                    <a:pt x="538" y="1553"/>
                  </a:lnTo>
                  <a:lnTo>
                    <a:pt x="547" y="1438"/>
                  </a:lnTo>
                  <a:lnTo>
                    <a:pt x="552" y="1306"/>
                  </a:lnTo>
                  <a:lnTo>
                    <a:pt x="547" y="1187"/>
                  </a:lnTo>
                  <a:lnTo>
                    <a:pt x="543" y="1121"/>
                  </a:lnTo>
                  <a:lnTo>
                    <a:pt x="534" y="993"/>
                  </a:lnTo>
                  <a:lnTo>
                    <a:pt x="530" y="922"/>
                  </a:lnTo>
                  <a:lnTo>
                    <a:pt x="521" y="838"/>
                  </a:lnTo>
                  <a:lnTo>
                    <a:pt x="512" y="781"/>
                  </a:lnTo>
                  <a:lnTo>
                    <a:pt x="499" y="715"/>
                  </a:lnTo>
                  <a:lnTo>
                    <a:pt x="472" y="636"/>
                  </a:lnTo>
                  <a:lnTo>
                    <a:pt x="441" y="573"/>
                  </a:lnTo>
                  <a:lnTo>
                    <a:pt x="406" y="520"/>
                  </a:lnTo>
                  <a:lnTo>
                    <a:pt x="358" y="458"/>
                  </a:lnTo>
                  <a:lnTo>
                    <a:pt x="287" y="352"/>
                  </a:lnTo>
                  <a:lnTo>
                    <a:pt x="224" y="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003480" y="4322880"/>
              <a:ext cx="327600" cy="1068840"/>
              <a:chOff x="3003480" y="4322880"/>
              <a:chExt cx="327600" cy="10688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3003480" y="5110200"/>
                <a:ext cx="314640" cy="281520"/>
                <a:chOff x="3003480" y="5110200"/>
                <a:chExt cx="314640" cy="281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003480" y="5110200"/>
                  <a:ext cx="314640" cy="281520"/>
                </a:xfrm>
                <a:custGeom>
                  <a:avLst/>
                  <a:gdLst/>
                  <a:ahLst/>
                  <a:rect l="0" t="0" r="r" b="b"/>
                  <a:pathLst>
                    <a:path w="874" h="782">
                      <a:moveTo>
                        <a:pt x="132" y="101"/>
                      </a:moveTo>
                      <a:lnTo>
                        <a:pt x="79" y="203"/>
                      </a:lnTo>
                      <a:lnTo>
                        <a:pt x="57" y="239"/>
                      </a:lnTo>
                      <a:lnTo>
                        <a:pt x="48" y="287"/>
                      </a:lnTo>
                      <a:lnTo>
                        <a:pt x="35" y="349"/>
                      </a:lnTo>
                      <a:lnTo>
                        <a:pt x="35" y="406"/>
                      </a:lnTo>
                      <a:lnTo>
                        <a:pt x="44" y="468"/>
                      </a:lnTo>
                      <a:lnTo>
                        <a:pt x="66" y="521"/>
                      </a:lnTo>
                      <a:lnTo>
                        <a:pt x="119" y="556"/>
                      </a:lnTo>
                      <a:lnTo>
                        <a:pt x="66" y="525"/>
                      </a:lnTo>
                      <a:lnTo>
                        <a:pt x="44" y="521"/>
                      </a:lnTo>
                      <a:lnTo>
                        <a:pt x="17" y="534"/>
                      </a:lnTo>
                      <a:lnTo>
                        <a:pt x="4" y="547"/>
                      </a:lnTo>
                      <a:lnTo>
                        <a:pt x="0" y="574"/>
                      </a:lnTo>
                      <a:lnTo>
                        <a:pt x="8" y="597"/>
                      </a:lnTo>
                      <a:lnTo>
                        <a:pt x="26" y="623"/>
                      </a:lnTo>
                      <a:lnTo>
                        <a:pt x="92" y="672"/>
                      </a:lnTo>
                      <a:lnTo>
                        <a:pt x="194" y="711"/>
                      </a:lnTo>
                      <a:lnTo>
                        <a:pt x="242" y="725"/>
                      </a:lnTo>
                      <a:lnTo>
                        <a:pt x="291" y="734"/>
                      </a:lnTo>
                      <a:lnTo>
                        <a:pt x="335" y="734"/>
                      </a:lnTo>
                      <a:lnTo>
                        <a:pt x="379" y="747"/>
                      </a:lnTo>
                      <a:lnTo>
                        <a:pt x="436" y="769"/>
                      </a:lnTo>
                      <a:lnTo>
                        <a:pt x="561" y="782"/>
                      </a:lnTo>
                      <a:lnTo>
                        <a:pt x="710" y="751"/>
                      </a:lnTo>
                      <a:lnTo>
                        <a:pt x="807" y="751"/>
                      </a:lnTo>
                      <a:lnTo>
                        <a:pt x="830" y="742"/>
                      </a:lnTo>
                      <a:lnTo>
                        <a:pt x="856" y="720"/>
                      </a:lnTo>
                      <a:lnTo>
                        <a:pt x="860" y="689"/>
                      </a:lnTo>
                      <a:lnTo>
                        <a:pt x="874" y="561"/>
                      </a:lnTo>
                      <a:lnTo>
                        <a:pt x="874" y="459"/>
                      </a:lnTo>
                      <a:lnTo>
                        <a:pt x="869" y="406"/>
                      </a:lnTo>
                      <a:lnTo>
                        <a:pt x="860" y="367"/>
                      </a:lnTo>
                      <a:lnTo>
                        <a:pt x="856" y="336"/>
                      </a:lnTo>
                      <a:lnTo>
                        <a:pt x="847" y="296"/>
                      </a:lnTo>
                      <a:lnTo>
                        <a:pt x="799" y="154"/>
                      </a:lnTo>
                      <a:lnTo>
                        <a:pt x="750" y="0"/>
                      </a:lnTo>
                      <a:lnTo>
                        <a:pt x="132" y="10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44880" y="5297400"/>
                  <a:ext cx="12960" cy="24840"/>
                </a:xfrm>
                <a:custGeom>
                  <a:avLst/>
                  <a:gdLst/>
                  <a:ahLst/>
                  <a:rect l="0" t="0" r="r" b="b"/>
                  <a:pathLst>
                    <a:path fill="none" w="36" h="69">
                      <a:moveTo>
                        <a:pt x="36" y="0"/>
                      </a:moveTo>
                      <a:lnTo>
                        <a:pt x="36" y="0"/>
                      </a:lnTo>
                      <a:lnTo>
                        <a:pt x="36" y="0"/>
                      </a:lnTo>
                      <a:cubicBezTo>
                        <a:pt x="30" y="0"/>
                        <a:pt x="23" y="3"/>
                        <a:pt x="18" y="9"/>
                      </a:cubicBezTo>
                      <a:cubicBezTo>
                        <a:pt x="12" y="14"/>
                        <a:pt x="8" y="22"/>
                        <a:pt x="5" y="32"/>
                      </a:cubicBezTo>
                      <a:cubicBezTo>
                        <a:pt x="2" y="42"/>
                        <a:pt x="0" y="53"/>
                        <a:pt x="0" y="64"/>
                      </a:cubicBezTo>
                      <a:cubicBezTo>
                        <a:pt x="0" y="66"/>
                        <a:pt x="0" y="67"/>
                        <a:pt x="0" y="69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017880" y="4322880"/>
                <a:ext cx="313200" cy="834840"/>
                <a:chOff x="3017880" y="4322880"/>
                <a:chExt cx="313200" cy="8348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033720" y="5100480"/>
                  <a:ext cx="270000" cy="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017880" y="4322880"/>
                  <a:ext cx="313200" cy="802080"/>
                </a:xfrm>
                <a:custGeom>
                  <a:avLst/>
                  <a:gdLst/>
                  <a:ahLst/>
                  <a:rect l="0" t="0" r="r" b="b"/>
                  <a:pathLst>
                    <a:path w="870" h="2228">
                      <a:moveTo>
                        <a:pt x="44" y="741"/>
                      </a:moveTo>
                      <a:lnTo>
                        <a:pt x="26" y="1381"/>
                      </a:lnTo>
                      <a:lnTo>
                        <a:pt x="0" y="2224"/>
                      </a:lnTo>
                      <a:lnTo>
                        <a:pt x="835" y="2228"/>
                      </a:lnTo>
                      <a:lnTo>
                        <a:pt x="844" y="1337"/>
                      </a:lnTo>
                      <a:lnTo>
                        <a:pt x="844" y="918"/>
                      </a:lnTo>
                      <a:lnTo>
                        <a:pt x="870" y="476"/>
                      </a:lnTo>
                      <a:lnTo>
                        <a:pt x="861" y="379"/>
                      </a:lnTo>
                      <a:lnTo>
                        <a:pt x="853" y="304"/>
                      </a:lnTo>
                      <a:lnTo>
                        <a:pt x="835" y="233"/>
                      </a:lnTo>
                      <a:lnTo>
                        <a:pt x="822" y="180"/>
                      </a:lnTo>
                      <a:lnTo>
                        <a:pt x="791" y="132"/>
                      </a:lnTo>
                      <a:lnTo>
                        <a:pt x="764" y="97"/>
                      </a:lnTo>
                      <a:lnTo>
                        <a:pt x="716" y="61"/>
                      </a:lnTo>
                      <a:lnTo>
                        <a:pt x="654" y="30"/>
                      </a:lnTo>
                      <a:lnTo>
                        <a:pt x="587" y="13"/>
                      </a:lnTo>
                      <a:lnTo>
                        <a:pt x="512" y="4"/>
                      </a:lnTo>
                      <a:lnTo>
                        <a:pt x="450" y="0"/>
                      </a:lnTo>
                      <a:lnTo>
                        <a:pt x="375" y="13"/>
                      </a:lnTo>
                      <a:lnTo>
                        <a:pt x="305" y="39"/>
                      </a:lnTo>
                      <a:lnTo>
                        <a:pt x="261" y="66"/>
                      </a:lnTo>
                      <a:lnTo>
                        <a:pt x="207" y="101"/>
                      </a:lnTo>
                      <a:lnTo>
                        <a:pt x="171" y="145"/>
                      </a:lnTo>
                      <a:lnTo>
                        <a:pt x="132" y="216"/>
                      </a:lnTo>
                      <a:lnTo>
                        <a:pt x="105" y="286"/>
                      </a:lnTo>
                      <a:lnTo>
                        <a:pt x="74" y="410"/>
                      </a:lnTo>
                      <a:lnTo>
                        <a:pt x="44" y="741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3297240" y="3786120"/>
              <a:ext cx="368280" cy="165240"/>
              <a:chOff x="3297240" y="3786120"/>
              <a:chExt cx="368280" cy="165240"/>
            </a:xfrm>
          </p:grpSpPr>
          <p:sp>
            <p:nvSpPr>
              <p:cNvPr id="191" name=""/>
              <p:cNvSpPr/>
              <p:nvPr/>
            </p:nvSpPr>
            <p:spPr>
              <a:xfrm>
                <a:off x="3535200" y="3807000"/>
                <a:ext cx="103680" cy="25920"/>
              </a:xfrm>
              <a:custGeom>
                <a:avLst/>
                <a:gdLst/>
                <a:ahLst/>
                <a:rect l="0" t="0" r="r" b="b"/>
                <a:pathLst>
                  <a:path w="288" h="72">
                    <a:moveTo>
                      <a:pt x="288" y="72"/>
                    </a:moveTo>
                    <a:lnTo>
                      <a:pt x="248" y="27"/>
                    </a:lnTo>
                    <a:lnTo>
                      <a:pt x="212" y="17"/>
                    </a:lnTo>
                    <a:lnTo>
                      <a:pt x="137" y="0"/>
                    </a:lnTo>
                    <a:lnTo>
                      <a:pt x="66" y="0"/>
                    </a:lnTo>
                    <a:lnTo>
                      <a:pt x="0" y="17"/>
                    </a:lnTo>
                    <a:lnTo>
                      <a:pt x="150" y="45"/>
                    </a:lnTo>
                    <a:lnTo>
                      <a:pt x="288" y="7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64000" y="3786120"/>
                <a:ext cx="101520" cy="16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97240" y="3871800"/>
                <a:ext cx="27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611520" y="3854520"/>
                <a:ext cx="35280" cy="55440"/>
                <a:chOff x="3611520" y="3854520"/>
                <a:chExt cx="35280" cy="554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611520" y="3854520"/>
                  <a:ext cx="3024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21240" y="3860640"/>
                  <a:ext cx="25560" cy="316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7" name=""/>
          <p:cNvSpPr/>
          <p:nvPr/>
        </p:nvSpPr>
        <p:spPr>
          <a:xfrm>
            <a:off x="3657600" y="3733920"/>
            <a:ext cx="108000" cy="1522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11600" y="3733920"/>
            <a:ext cx="272880" cy="152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30480" y="3733920"/>
            <a:ext cx="108000" cy="152280"/>
          </a:xfrm>
          <a:prstGeom prst="ellipse">
            <a:avLst/>
          </a:prstGeom>
          <a:solidFill>
            <a:srgbClr val="4d4d4d"/>
          </a:solidFill>
          <a:ln w="12600">
            <a:solidFill>
              <a:srgbClr val="00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3809880"/>
            <a:ext cx="108000" cy="15228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3809880"/>
            <a:ext cx="272880" cy="1522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54520" y="3809880"/>
            <a:ext cx="108000" cy="152280"/>
          </a:xfrm>
          <a:prstGeom prst="ellipse">
            <a:avLst/>
          </a:prstGeom>
          <a:solidFill>
            <a:srgbClr val="4d4d4d"/>
          </a:solidFill>
          <a:ln w="12600">
            <a:solidFill>
              <a:srgbClr val="00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094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The periphery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 informs and creates the 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eriphery is the “tacit” dimension to thinking an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technology tends to deliver information to the center, and strips off the periph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ing flame-wars in emai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acit is easy to forget…but without it nothing get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The Flow State and the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Tacit Dim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you work uninterruptedly on a sufficiently interesting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 forget where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e passes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our unconscious (tacit) mind rallies to make you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User interfaces for flow: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Arial"/>
              </a:rPr>
              <a:t>“Calm Technolog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chnology that delivers information to the periphery, not just th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chnology and practices that let us attune without att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we are all now attuned to a fire alarm that is not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nswer to information overload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ormation, delivered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Successes of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Humanities-Inspired C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y+compute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0’s”+computer                      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tmodern+computer             Ubic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verse mixes lead to su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to shake up your research, mix in some other discip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1880" y="2286000"/>
            <a:ext cx="912600" cy="0"/>
          </a:xfrm>
          <a:prstGeom prst="line">
            <a:avLst/>
          </a:prstGeom>
          <a:ln w="7632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3440" y="2819520"/>
            <a:ext cx="1675080" cy="0"/>
          </a:xfrm>
          <a:prstGeom prst="line">
            <a:avLst/>
          </a:prstGeom>
          <a:ln w="7632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11880" y="3429000"/>
            <a:ext cx="836640" cy="0"/>
          </a:xfrm>
          <a:prstGeom prst="line">
            <a:avLst/>
          </a:prstGeom>
          <a:ln w="7632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buggy code an ethical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hard to read code an ethical iss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Buggy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your students and engineers understand how their designs and code may be relied upon for health and welf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 your definition of a bug include a program that is hard to use, or works only under limited external condi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 modest grading propos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- getting the right answer on all input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- also producing a good mess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outside th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 - also easy to use and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- also combining easily with oth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Community,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academics be trusted with the education of our commu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specially the research universit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cademics are members of a foreign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have not coded much, nor as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don’t deeply know aesthetics o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umanities (or customers) are not thei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y hang out a lot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uter scientists and grad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Most important thing I learned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s an entrepren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and obtaining fina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r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 and schedu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s and distrib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Problems with reaching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ing a real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Ten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nure should require real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ommunity member beyond acad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need connection to re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No tenure without industry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ry best PhD’s would go to industry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so become professors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182880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story of Technologic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fying Ame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al Monopoly and Universal Serv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istory of Technology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story of the Moder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mopol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ocial History of Tru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acit Dimension; The Psychology of Everyday Th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of Sty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mputer Projects That Failed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ical Man-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ally behind great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exist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Notes (S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, Software Proces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M, Capability Mat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SP, Personal Softwar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ks like Yourd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Agree to A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ach your graduate students, and your employees, to measure, and reflect, on themselves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e to agreement on ethics, people,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tative agreement is more important than being 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you know mor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is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My metrics for ICSE in 5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ed papers from non-CS, non-EE and non-SE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ed use of SPI in academia (reflected in conference papers describing t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reased agreement in conference proceedings on common terms and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Problem with Agreement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is it that business people and engineers rarely understand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swer: they have different cultures for communicating impor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gineers and Businesspeople have anathematic distorti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 v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t 1.0 stand for a perfect match of reality t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house appears white on this sid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 v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gineers/scientists speak at 0.5-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lly underst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understated if mo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house was probably whi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ish to suggest a structure for the salt of deoxyrobose nucleic ac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Arial"/>
              </a:rPr>
              <a:t>Reality distortion v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keteers speak at 1.5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if mo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house is dazzlingly white inside and ou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standing laser print qual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Weiser</dc:creator>
  <dc:description/>
  <dc:language>en-US</dc:language>
  <cp:lastModifiedBy>Mark Weiser</cp:lastModifiedBy>
  <cp:revision>0</cp:revision>
  <dc:subject/>
  <dc:title>Software Engineering for People</dc:title>
</cp:coreProperties>
</file>